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wmf" ContentType="image/x-wmf"/>
  <Override PartName="/ppt/media/image10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9.wmf" ContentType="image/x-wmf"/>
  <Override PartName="/ppt/media/image22.wmf" ContentType="image/x-wmf"/>
  <Override PartName="/ppt/media/image20.gif" ContentType="image/gi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5.jpeg" ContentType="image/jpeg"/>
  <Override PartName="/ppt/media/image1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0D6-D1EC-4860-99CB-0FC8B0E0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A833-A47C-4746-93DD-38954DA5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D21-E02C-4722-912F-9D405101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0E10-8F0E-41F3-ADD3-8D343EAB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DBD-B864-445A-BC79-E05F3374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4CF1-DC77-4B6E-AB5B-AAA43699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9532-1FD1-467D-B29B-35C3655C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4DA-B361-4DFF-8763-C68B9B07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17E-6991-4FC6-814B-EBFF7ADB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FD6-2144-4490-A42D-5FDB1A4C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523-66CC-41A9-9052-1B9DECA9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4C0-4A46-494A-BE1E-403385B1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C819-F371-4D3C-AB38-0017553A6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Mr. Spe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67080" y="457200"/>
            <a:ext cx="2870280" cy="200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657600" cy="218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1747800" cy="180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819520" y="4267080"/>
            <a:ext cx="1787400" cy="1868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486400" y="4114800"/>
            <a:ext cx="3276720" cy="221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010280" y="1143000"/>
            <a:ext cx="16495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Mr. Spey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53080" y="7621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2286000" cy="2776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286000" y="563868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324480" y="4876920"/>
            <a:ext cx="14018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r. Spey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7920" y="5486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training to be a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1753920" cy="1373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1809720" cy="1592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286000" y="3352680"/>
            <a:ext cx="1819440" cy="1716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010280" y="2819520"/>
            <a:ext cx="134640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is Mr. Spey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95280" y="57913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class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25312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il W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327636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giv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4671720" cy="4687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23860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here at Sedal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2362320" cy="2183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666880" y="4495680"/>
            <a:ext cx="2590920" cy="1546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334120" y="2362320"/>
            <a:ext cx="28191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vie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questions about Mr. Spey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Mr. Spey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Mr. Spey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Mr. Spey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i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e at Seda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last essential question is ____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 need your hel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help me by trying hard and doing your best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help me by sitting straight and paying att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help me by respecting yourself and respecting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me also means helping your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2:17:56Z</dcterms:created>
  <dc:creator>Joel Speyer</dc:creator>
  <dc:description/>
  <dc:language>en-US</dc:language>
  <cp:lastModifiedBy>Joel Speyer</cp:lastModifiedBy>
  <dcterms:modified xsi:type="dcterms:W3CDTF">2010-10-18T23:43:43Z</dcterms:modified>
  <cp:revision>10</cp:revision>
  <dc:subject/>
  <dc:title>All About Mr. Speyer</dc:title>
</cp:coreProperties>
</file>